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9C070-2BE2-46DE-8E5F-86B4AECD97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9DD0-41EF-4945-BD7E-C09B240BBC21}"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40696-BD81-4D76-823A-96F20AD611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79C8B-BBE1-40EF-AA95-A82C08F23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512D1-C862-43FF-BBA0-9E98EAA08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CC38C-DEBD-40FA-9507-173D162160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6FAEE-43E1-4EB3-8A7F-F6D8CCDCF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E9864-9F32-4834-A399-590F75646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535FA-BECD-4DF1-94F2-5B40E057D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D453-5B35-4C4B-AA08-E17C796F2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925FE-6DAF-4E9B-84BC-D5A0E2DDF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42B23-506A-42B9-821C-FF0C72678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EF63E-763D-4507-8488-89B88D09E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75F74-9ED8-46A8-AE39-EC10A1EC8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0227-E048-417F-9D22-EFE7364EF93B}"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MALNUTRITION (PEM)</a:t>
            </a:r>
            <a:br>
              <a:rPr sz="5400"/>
            </a:br>
            <a:endParaRPr b="0" lang="en-US" sz="5400" spc="-1" strike="noStrike">
              <a:solidFill>
                <a:srgbClr val="ffffff"/>
              </a:solidFill>
              <a:latin typeface="Calibri"/>
            </a:endParaRPr>
          </a:p>
        </p:txBody>
      </p:sp>
      <p:sp>
        <p:nvSpPr>
          <p:cNvPr id="49" name="PlaceHolder 2"/>
          <p:cNvSpPr>
            <a:spLocks noGrp="1"/>
          </p:cNvSpPr>
          <p:nvPr>
            <p:ph type="subTitle"/>
          </p:nvPr>
        </p:nvSpPr>
        <p:spPr>
          <a:xfrm>
            <a:off x="1447920" y="255276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alibri"/>
              </a:rPr>
              <a:t>Marasmus/Kwashiorkor</a:t>
            </a:r>
            <a:endParaRPr b="0" lang="en-US" sz="4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rowth retardation: this is reflected by:</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eight is markedly diminish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tarded linear growth (length).</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ad circumference may also be affect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one age may be retarded.</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dema:</a:t>
            </a:r>
            <a:endParaRPr b="0" lang="en-US" sz="32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 main factor is hypoproteinemia. It star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 the feet and lower parts of the legs the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ecomes-generalized. It is usually soft and</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itting, affecting more the dependent par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ack and dorsum of hands and feet). The</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heeks become bulky, pale and waxy i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ppearance (doll-like checks). Ascites is unusual.</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isturbed muscle/ fat ratio (Muscle wasting)</a:t>
            </a:r>
            <a:endParaRPr b="0" lang="en-US" sz="32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re is a generalized muscle wasting with</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eservation of some subcutaneous fat. This can be     demonstrated clinically by measuring the mid-arm circumference which is diminished in these cases. The children are often weak, hypotonic and unable to stand and walk.</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sychomotor change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fants with kwashiorkor have marked apathy;</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isery and they lack interest in the surrounding. They don't move, look sad and never smile. Their cry is wea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ir Change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Hair is spares, especially over the temples and</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ccipital regions. </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ere is depigmentation of hair. The hair loses its</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black color and becomes reddish or grayish.</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eficiency of pantothenic acid and sulfur containing</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mino- acids in the hair or a defect in the melanin</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rmation may be responsible for such depigment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3200" spc="-1" strike="noStrike">
                <a:solidFill>
                  <a:srgbClr val="ffffff"/>
                </a:solidFill>
                <a:latin typeface="Calibri"/>
              </a:rPr>
              <a:t>Diarrhea is common and can be due to:</a:t>
            </a:r>
            <a:endParaRPr b="0" lang="en-US" sz="32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nfection with intestinal pathogens or parasites.</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Reduction of intestinal and pancreatic enzymes (e.g., amylase, lipase) as a result of protein deficiency. This will lead to inadequate digestion of food and passage of loose stools as a consequence.</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Malabsorption of nitrogen, fat, carbohydrates and minerals due to the atrophy of villi.</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nical Manifestation</a:t>
            </a:r>
            <a:endParaRPr b="0" lang="en-US" sz="4400" spc="-1" strike="noStrike">
              <a:solidFill>
                <a:srgbClr val="ffffff"/>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epatomegaly:</a:t>
            </a:r>
            <a:endParaRPr b="0" lang="en-US" sz="3200" spc="-1" strike="noStrike">
              <a:solidFill>
                <a:srgbClr val="ffffff"/>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caused by fatty infiltration of the liver, which is a constant pathological finding in kwashiorkor that may or may not be accompanied by hepatomegaly.</a:t>
            </a:r>
            <a:endParaRPr b="0" lang="en-US" sz="3200" spc="-1" strike="noStrike">
              <a:solidFill>
                <a:srgbClr val="ffffff"/>
              </a:solidFill>
              <a:latin typeface="Calibri"/>
            </a:endParaRPr>
          </a:p>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emia: due to:</a:t>
            </a:r>
            <a:endParaRPr b="0" lang="en-US" sz="3200" spc="-1" strike="noStrike">
              <a:solidFill>
                <a:srgbClr val="ffffff"/>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eficiency of protein, iron, zinc, copper, folic acid and vitamins A, B, E and or C.</a:t>
            </a:r>
            <a:endParaRPr b="0" lang="en-US" sz="2400" spc="-1" strike="noStrike">
              <a:solidFill>
                <a:srgbClr val="ffffff"/>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fections may be responsible by disturbing the iron metabolism</a:t>
            </a:r>
            <a:r>
              <a:rPr b="0" lang="en-US" sz="3200" spc="-1" strike="noStrike">
                <a:solidFill>
                  <a:srgbClr val="ffffff"/>
                </a:solidFill>
                <a:latin typeface="Calibri"/>
              </a:rPr>
              <a: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aboratory Findings</a:t>
            </a:r>
            <a:endParaRPr b="0" lang="en-US" sz="4400" spc="-1" strike="noStrike">
              <a:solidFill>
                <a:srgbClr val="ffffff"/>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Reduced total plasma protein (less than 4</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m/d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Reduced level of serum albumin (less than 2</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m/dl).</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Urea in blood and urine is markedly reduced because of deficient intake of exogenous protei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rasmus - Definition</a:t>
            </a:r>
            <a:endParaRPr b="0" lang="en-US" sz="4400" spc="-1" strike="noStrike">
              <a:solidFill>
                <a:srgbClr val="ffffff"/>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rasmus is a form of severe PEM occur as result from a</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negative energy balance that may occur at any ag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particularly in early infancy and is characterized by:</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re wasting, the body utilizes all fat stores before using</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muscles.</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oss of subcutaneous fat.</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Gross muscle wasting.</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bsence of edema.</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marasmus” comes from Greek origin of word “to wast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87" name="Content Placeholder 3" descr=""/>
          <p:cNvPicPr/>
          <p:nvPr/>
        </p:nvPicPr>
        <p:blipFill>
          <a:blip r:embed="rId1"/>
          <a:stretch/>
        </p:blipFill>
        <p:spPr>
          <a:xfrm>
            <a:off x="463680" y="1600200"/>
            <a:ext cx="3298680" cy="4525920"/>
          </a:xfrm>
          <a:prstGeom prst="rect">
            <a:avLst/>
          </a:prstGeom>
          <a:ln w="0">
            <a:noFill/>
          </a:ln>
        </p:spPr>
      </p:pic>
      <p:pic>
        <p:nvPicPr>
          <p:cNvPr id="88" name="Picture 5" descr=""/>
          <p:cNvPicPr/>
          <p:nvPr/>
        </p:nvPicPr>
        <p:blipFill>
          <a:blip r:embed="rId2"/>
          <a:stretch/>
        </p:blipFill>
        <p:spPr>
          <a:xfrm>
            <a:off x="4343400" y="457200"/>
            <a:ext cx="3760920" cy="608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OVERVIEW OF PEM</a:t>
            </a:r>
            <a:endParaRPr b="0" lang="en-US" sz="4400" spc="-1" strike="noStrike">
              <a:solidFill>
                <a:srgbClr val="ffffff"/>
              </a:solidFill>
              <a:latin typeface="Calibri"/>
            </a:endParaRPr>
          </a:p>
        </p:txBody>
      </p:sp>
      <p:sp>
        <p:nvSpPr>
          <p:cNvPr id="51" name=""/>
          <p:cNvSpPr txBox="1"/>
          <p:nvPr/>
        </p:nvSpPr>
        <p:spPr>
          <a:xfrm>
            <a:off x="380880" y="1523880"/>
            <a:ext cx="8229600" cy="47246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O defines malnutrition as "the cellular </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imbalance between the supply of nutrients and energy and the body’s demand for them to ensure growth, maintenance, and specific function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rm protein-energy malnutrition (PEM) applies to a group of related disorders. tha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clude marasmus or kwashiorko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pic>
        <p:nvPicPr>
          <p:cNvPr id="90" name="Content Placeholder 5" descr=""/>
          <p:cNvPicPr/>
          <p:nvPr/>
        </p:nvPicPr>
        <p:blipFill>
          <a:blip r:embed="rId1"/>
          <a:stretch/>
        </p:blipFill>
        <p:spPr>
          <a:xfrm>
            <a:off x="1828800" y="1417680"/>
            <a:ext cx="5116680" cy="5213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rasmus</a:t>
            </a:r>
            <a:endParaRPr b="0" lang="en-US" sz="4400" spc="-1" strike="noStrike">
              <a:solidFill>
                <a:srgbClr val="ffffff"/>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tudies suggest that Marasmus represents</a:t>
            </a:r>
            <a:endParaRPr b="0" lang="en-US" sz="3200" spc="-1" strike="noStrike">
              <a:solidFill>
                <a:srgbClr val="ffffff"/>
              </a:solidFill>
              <a:latin typeface="Calibri"/>
            </a:endParaRPr>
          </a:p>
          <a:p>
            <a:pPr marL="329040" indent="-329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 adaptive response to starvation</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 adapt to an energy deficiency with:</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a decrease in physical activity.</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lethargy.</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a decrease in basal energy metabolism.</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 slowing of growth.</a:t>
            </a:r>
            <a:endParaRPr b="0" lang="en-US" sz="3200" spc="-1" strike="noStrike">
              <a:solidFill>
                <a:srgbClr val="ffffff"/>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5- finally, weight los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tiology</a:t>
            </a:r>
            <a:endParaRPr b="0" lang="en-US" sz="4400" spc="-1" strike="noStrike">
              <a:solidFill>
                <a:srgbClr val="ffffff"/>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specific cause may b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Poor feeding habits due to improper training.</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ck of breast feeding and the use of dilut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imal milk.</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A physical defect e.g. cleft lip or cleft palat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cardiac abnormalities, which prevent the infant from taking an adequate die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tiology</a:t>
            </a:r>
            <a:endParaRPr b="0" lang="en-US" sz="4400" spc="-1" strike="noStrike">
              <a:solidFill>
                <a:srgbClr val="ffffff"/>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Diseases, which interfere with the</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bsorption of food e.g. cystic fibrosis.</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 Infections, which produce anorexia.</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5. Loss of food through vomiting and diarrhea.</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6. Emotional problems e.g. disturbed mother child relationshi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rasmus</a:t>
            </a:r>
            <a:endParaRPr b="0" lang="en-US" sz="4400" spc="-1" strike="noStrike">
              <a:solidFill>
                <a:srgbClr val="ffffff"/>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racteristically cases of Marasm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No edema.</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dermatos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hair chang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No fatty infiltration of the liver (hepatomegal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arasmus</a:t>
            </a:r>
            <a:endParaRPr b="0" lang="en-US" sz="44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sychic Changes:</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asmic infants look anxious, irritable,</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cessively cry and sleep little. However, they</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ok less miserable than the cases of kwashiorkor.</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asmic infants are usually hungry and have</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ood appetite. Sometimes, there is anorexia</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d poor feed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Laboratory Findings</a:t>
            </a:r>
            <a:endParaRPr b="0" lang="en-US" sz="4400" spc="-1" strike="noStrike">
              <a:solidFill>
                <a:srgbClr val="ffffff"/>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Plasma protein may be normal or slightly</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wered. This is because marasmic infants live on their own muscle protein.</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Blood urea is low since the protein utilized</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y the infant is totally endogenous protein.</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Blood glucose level is low due to deficient</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lycogen stores in the liver</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 and prevention</a:t>
            </a:r>
            <a:endParaRPr b="0" lang="en-US" sz="4400" spc="-1" strike="noStrike">
              <a:solidFill>
                <a:srgbClr val="ffffff"/>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orrection of water and electrolyte balance</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eat infection and worm infestations</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Dietary support</a:t>
            </a:r>
            <a:endParaRPr b="0" lang="en-US" sz="2800" spc="-1" strike="noStrike">
              <a:solidFill>
                <a:srgbClr val="ffffff"/>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3-4g protein and 200 cal/kg body weight/day</a:t>
            </a:r>
            <a:endParaRPr b="0" lang="en-US" sz="2800" spc="-1" strike="noStrike">
              <a:solidFill>
                <a:srgbClr val="ffffff"/>
              </a:solidFill>
              <a:latin typeface="Calibri"/>
            </a:endParaRPr>
          </a:p>
          <a:p>
            <a:pPr>
              <a:spcBef>
                <a:spcPts val="7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Vitamins and minerals</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Prevention of hypothermia</a:t>
            </a:r>
            <a:endParaRPr b="0" lang="en-US" sz="2800" spc="-1" strike="noStrike">
              <a:solidFill>
                <a:srgbClr val="ffffff"/>
              </a:solidFill>
              <a:latin typeface="Calibri"/>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Counsel parents and plan future including</a:t>
            </a:r>
            <a:endParaRPr b="0" lang="en-US" sz="2800" spc="-1" strike="noStrike">
              <a:solidFill>
                <a:srgbClr val="ffffff"/>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mmunization and diet supplement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 </a:t>
            </a:r>
            <a:endParaRPr b="0" lang="en-US" sz="4400" spc="-1" strike="noStrike">
              <a:solidFill>
                <a:srgbClr val="ffffff"/>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itial “refeeding”</a:t>
            </a:r>
            <a:endParaRPr b="0" lang="en-US" sz="36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Continue breast feeding</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Add frequent small feeds</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Use liquid diet</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Give vitamin A and folic acid</a:t>
            </a:r>
            <a:endParaRPr b="0" lang="en-US" sz="3200" spc="-1" strike="noStrike">
              <a:solidFill>
                <a:srgbClr val="ffffff"/>
              </a:solidFill>
              <a:latin typeface="Calibri"/>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n admission With diarrhea use lactose-free</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or soya bean formula</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a:t>
            </a:r>
            <a:endParaRPr b="0" lang="en-US" sz="4400" spc="-1" strike="noStrike">
              <a:solidFill>
                <a:srgbClr val="ffffff"/>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eatment strategy can be divided into three stage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olving life threatening condition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storing nutritional stat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suring nutritional rehabilitat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OVERVIEW OF PEM</a:t>
            </a:r>
            <a:endParaRPr b="0" lang="en-US" sz="4400" spc="-1" strike="noStrike">
              <a:solidFill>
                <a:srgbClr val="ffffff"/>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lthough several factors may contribute to the production of PEM, the basic problem is usually a lack of food intake. Sometimes, there may be poor absorption of one or more of food components. Other time, the cause is</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lack of parental education regarding</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infants and children's nutritio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a:t>
            </a:r>
            <a:endParaRPr b="0" lang="en-US" sz="4400" spc="-1" strike="noStrike">
              <a:solidFill>
                <a:srgbClr val="ffffff"/>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re are three stages of treatmen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Hospital Treatmen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following conditions should be corrected.</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ypothermia, hypoglycemia, infection, dehydration, electrolyte imbalance, anemia and other vitamin and mineral deficienc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REATMENT</a:t>
            </a:r>
            <a:endParaRPr b="0" lang="en-US" sz="4400" spc="-1" strike="noStrike">
              <a:solidFill>
                <a:srgbClr val="ffffff"/>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 Dietary Management</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diet should be from locally available staple foods inexpensive, easily digestible, evenly distributed throughout the day and increased number of feedings to increase the quantity of food.</a:t>
            </a:r>
            <a:endParaRPr b="0" lang="en-US" sz="2400" spc="-1" strike="noStrike">
              <a:solidFill>
                <a:srgbClr val="fffff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 Rehabilitation</a:t>
            </a:r>
            <a:endParaRPr b="0" lang="en-US" sz="2400" spc="-1" strike="noStrike">
              <a:solidFill>
                <a:srgbClr val="ffffff"/>
              </a:solidFill>
              <a:latin typeface="Calibri"/>
            </a:endParaRPr>
          </a:p>
          <a:p>
            <a:pPr>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concept of nutritional rehabilitation is based on practical nutritional training for mothers in which they learn by feeding their children back to health under supervision and using local food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ake home message</a:t>
            </a:r>
            <a:endParaRPr b="0" lang="en-US" sz="4400" spc="-1" strike="noStrike">
              <a:solidFill>
                <a:srgbClr val="ffffff"/>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rotein-energy malnutrition = undernutrition</a:t>
            </a:r>
            <a:endParaRPr b="0" lang="en-US" sz="2800" spc="-1" strike="noStrike">
              <a:solidFill>
                <a:srgbClr val="ffffff"/>
              </a:solidFill>
              <a:latin typeface="Calibri"/>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 in developing countries</a:t>
            </a:r>
            <a:endParaRPr b="0" lang="en-US" sz="2800" spc="-1" strike="noStrike">
              <a:solidFill>
                <a:srgbClr val="ffffff"/>
              </a:solidFill>
              <a:latin typeface="Calibri"/>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2 types of PEM</a:t>
            </a:r>
            <a:endParaRPr b="0" lang="en-US" sz="2800" spc="-1" strike="noStrike">
              <a:solidFill>
                <a:srgbClr val="ffffff"/>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Kwashiorkor: protein deficiency + edema</a:t>
            </a:r>
            <a:endParaRPr b="0" lang="en-US" sz="2800" spc="-1" strike="noStrike">
              <a:solidFill>
                <a:srgbClr val="ffffff"/>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Marasmus: calories deficiency</a:t>
            </a:r>
            <a:endParaRPr b="0" lang="en-US" sz="2800" spc="-1" strike="noStrike">
              <a:solidFill>
                <a:srgbClr val="ffffff"/>
              </a:solidFill>
              <a:latin typeface="Calibri"/>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Interaction PEM / infection major cause of death</a:t>
            </a:r>
            <a:endParaRPr b="0" lang="en-US" sz="2800" spc="-1" strike="noStrike">
              <a:solidFill>
                <a:srgbClr val="ffffff"/>
              </a:solidFill>
              <a:latin typeface="Calibri"/>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reatment:</a:t>
            </a:r>
            <a:endParaRPr b="0" lang="en-US" sz="2800" spc="-1" strike="noStrike">
              <a:solidFill>
                <a:srgbClr val="ffffff"/>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progressive “refeeding”</a:t>
            </a:r>
            <a:endParaRPr b="0" lang="en-US" sz="2800" spc="-1" strike="noStrike">
              <a:solidFill>
                <a:srgbClr val="ffffff"/>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treatment of infection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THANK YOU</a:t>
            </a:r>
            <a:endParaRPr b="0" lang="en-US" sz="6000" spc="-1" strike="noStrike">
              <a:solidFill>
                <a:srgbClr val="ffffff"/>
              </a:solidFill>
              <a:latin typeface="Calibri"/>
            </a:endParaRPr>
          </a:p>
        </p:txBody>
      </p:sp>
      <p:pic>
        <p:nvPicPr>
          <p:cNvPr id="117" name="Picture 3" descr=""/>
          <p:cNvPicPr/>
          <p:nvPr/>
        </p:nvPicPr>
        <p:blipFill>
          <a:blip r:embed="rId1"/>
          <a:stretch/>
        </p:blipFill>
        <p:spPr>
          <a:xfrm>
            <a:off x="1905120" y="1397160"/>
            <a:ext cx="5449680" cy="30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Definitions</a:t>
            </a:r>
            <a:endParaRPr b="0" lang="en-US" sz="4400" spc="-1" strike="noStrike">
              <a:solidFill>
                <a:srgbClr val="ffffff"/>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RASMU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presents simple starvation . The body adapts to a chronic state of insufficient caloric intak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KWASHIORKO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the body’s response to insufficient protein intake but usually sufficient calories for energ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 - Definition</a:t>
            </a:r>
            <a:endParaRPr b="0" lang="en-US" sz="4400" spc="-1" strike="noStrike">
              <a:solidFill>
                <a:srgbClr val="ffffff"/>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t is an acute form of childhood protein-energy</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3200" spc="-1" strike="noStrike">
                <a:solidFill>
                  <a:srgbClr val="ffffff"/>
                </a:solidFill>
                <a:latin typeface="Calibri"/>
              </a:rPr>
              <a:t>malnutrition characterized by inadequate protein intake with reasonable caloric (energy)</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ntake; it tends to occur after weaning, when</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ildren change from breast milk to a diet</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onsisting mainly of carbohydrat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haracterized by edema, irritability, anorexia,</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ulcerating dermatoses, and an enlarged liver</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ith fatty infiltrates.</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presence of edema caused by poor nutrition defines kwashiorkor</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term Kwashiorkor is taken from the Ga</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nguage of Ghana &amp; means “the sickness of</a:t>
            </a:r>
            <a:endParaRPr b="0" lang="en-US" sz="3200" spc="-1" strike="noStrike">
              <a:solidFill>
                <a:srgbClr val="ffffff"/>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e weaning” .</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a:t>
            </a:r>
            <a:endParaRPr b="0" lang="en-US" sz="4400" spc="-1" strike="noStrike">
              <a:solidFill>
                <a:srgbClr val="ffffff"/>
              </a:solidFill>
              <a:latin typeface="Calibri"/>
            </a:endParaRPr>
          </a:p>
        </p:txBody>
      </p:sp>
      <p:pic>
        <p:nvPicPr>
          <p:cNvPr id="61" name="عنصر نائب للمحتوى 3" descr=""/>
          <p:cNvPicPr/>
          <p:nvPr/>
        </p:nvPicPr>
        <p:blipFill>
          <a:blip r:embed="rId1"/>
          <a:stretch/>
        </p:blipFill>
        <p:spPr>
          <a:xfrm>
            <a:off x="1219320" y="1752480"/>
            <a:ext cx="2070000" cy="3081600"/>
          </a:xfrm>
          <a:prstGeom prst="rect">
            <a:avLst/>
          </a:prstGeom>
          <a:ln w="0">
            <a:noFill/>
          </a:ln>
        </p:spPr>
      </p:pic>
      <p:pic>
        <p:nvPicPr>
          <p:cNvPr id="62" name="صورة 4" descr=""/>
          <p:cNvPicPr/>
          <p:nvPr/>
        </p:nvPicPr>
        <p:blipFill>
          <a:blip r:embed="rId2"/>
          <a:stretch/>
        </p:blipFill>
        <p:spPr>
          <a:xfrm>
            <a:off x="3914640" y="1752480"/>
            <a:ext cx="2027520" cy="3081600"/>
          </a:xfrm>
          <a:prstGeom prst="rect">
            <a:avLst/>
          </a:prstGeom>
          <a:ln w="0">
            <a:noFill/>
          </a:ln>
        </p:spPr>
      </p:pic>
      <p:pic>
        <p:nvPicPr>
          <p:cNvPr id="63" name="صورة 5" descr=""/>
          <p:cNvPicPr/>
          <p:nvPr/>
        </p:nvPicPr>
        <p:blipFill>
          <a:blip r:embed="rId3"/>
          <a:stretch/>
        </p:blipFill>
        <p:spPr>
          <a:xfrm>
            <a:off x="6222960" y="1724040"/>
            <a:ext cx="2463840" cy="306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a:t>
            </a:r>
            <a:endParaRPr b="0" lang="en-US" sz="4400" spc="-1" strike="noStrike">
              <a:solidFill>
                <a:srgbClr val="ffffff"/>
              </a:solidFill>
              <a:latin typeface="Calibri"/>
            </a:endParaRPr>
          </a:p>
        </p:txBody>
      </p:sp>
      <p:pic>
        <p:nvPicPr>
          <p:cNvPr id="65" name="عنصر نائب للمحتوى 3" descr=""/>
          <p:cNvPicPr/>
          <p:nvPr/>
        </p:nvPicPr>
        <p:blipFill>
          <a:blip r:embed="rId1"/>
          <a:stretch/>
        </p:blipFill>
        <p:spPr>
          <a:xfrm>
            <a:off x="457200" y="1600200"/>
            <a:ext cx="7696080" cy="502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Kwashiorkor</a:t>
            </a:r>
            <a:endParaRPr b="0" lang="en-US" sz="4400" spc="-1" strike="noStrike">
              <a:solidFill>
                <a:srgbClr val="ffffff"/>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etary Inadequacy:</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occurs when there is a rapid period of transition from the balanced diet supplied by the breast milk to an unbalanced inadequate diet, which is very low in protein, and consists mainly of carbohydrates due to socio – economic status such as:</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Poverty</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gnorance</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Inadequate weaning practice</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ack of basic health education and nutritional knowledge.</a:t>
            </a:r>
            <a:endParaRPr b="0" lang="en-US" sz="24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hild abuse</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2:24:28Z</dcterms:created>
  <dc:creator>claire</dc:creator>
  <dc:description/>
  <dc:language>en-US</dc:language>
  <cp:lastModifiedBy>Dr. Husam S. Islam</cp:lastModifiedBy>
  <dcterms:modified xsi:type="dcterms:W3CDTF">2018-02-27T21:11:16Z</dcterms:modified>
  <cp:revision>50</cp:revision>
  <dc:subject/>
  <dc:title>GI Board Review!</dc:title>
</cp:coreProperties>
</file>